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B746-DB6A-4DD5-B468-92F485DC4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C0BD-2A49-48D8-8CCC-44890157F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399A-AA53-4595-952D-3674DBCF8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E921-FCE3-4C5A-A593-A85B2C1C1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6B66-B07B-4D7C-96F7-5955A77B3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94A0-A7BB-428C-B578-EB3D0A458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663D-70E0-4B1B-8E00-D8C260ACF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ADCF-D163-4BA9-9AF8-5328A4B45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7058-06B0-4429-9F4C-E82CD980F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C0D9-A8A6-46A2-8492-7EF88F425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DDB4-B429-4D0A-88CC-2FA84C143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AC1F-36A4-4A56-BFC1-4D0F31DE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16E4F-2838-4243-BAE0-FC63573592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rder of Op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ichele Cochr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3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352000" cy="473076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1295280" y="380880"/>
            <a:ext cx="655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Order of Operation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7+5x3(2+1)=</a:t>
            </a:r>
            <a:br>
              <a:rPr sz="9600"/>
            </a:b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8936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Content Placeholder 3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8400960" cy="1261800"/>
          </a:xfrm>
          <a:prstGeom prst="rect">
            <a:avLst/>
          </a:prstGeom>
          <a:ln w="0">
            <a:noFill/>
          </a:ln>
        </p:spPr>
      </p:pic>
      <p:sp>
        <p:nvSpPr>
          <p:cNvPr id="48" name="TextBox 5"/>
          <p:cNvSpPr/>
          <p:nvPr/>
        </p:nvSpPr>
        <p:spPr>
          <a:xfrm>
            <a:off x="3048120" y="2819520"/>
            <a:ext cx="5181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7+5x3</a:t>
            </a:r>
            <a:r>
              <a:rPr b="0" lang="en-US" sz="66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2+1</a:t>
            </a:r>
            <a:r>
              <a:rPr b="0" lang="en-US" sz="66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3048120" y="2819520"/>
            <a:ext cx="2361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7+5x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533520" y="3124080"/>
            <a:ext cx="1371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py the parts you are not working on write them down below the original proble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ight Arrow 8"/>
          <p:cNvSpPr/>
          <p:nvPr/>
        </p:nvSpPr>
        <p:spPr>
          <a:xfrm rot="20543400">
            <a:off x="1955520" y="3489120"/>
            <a:ext cx="977760" cy="484200"/>
          </a:xfrm>
          <a:prstGeom prst="rightArrow">
            <a:avLst>
              <a:gd name="adj1" fmla="val 50000"/>
              <a:gd name="adj2" fmla="val 6144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ight Arrow 9"/>
          <p:cNvSpPr/>
          <p:nvPr/>
        </p:nvSpPr>
        <p:spPr>
          <a:xfrm rot="705600">
            <a:off x="1944360" y="4209840"/>
            <a:ext cx="977760" cy="484200"/>
          </a:xfrm>
          <a:prstGeom prst="rightArrow">
            <a:avLst>
              <a:gd name="adj1" fmla="val 50000"/>
              <a:gd name="adj2" fmla="val 6144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10"/>
          <p:cNvSpPr/>
          <p:nvPr/>
        </p:nvSpPr>
        <p:spPr>
          <a:xfrm>
            <a:off x="5411520" y="4191120"/>
            <a:ext cx="1532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Calibri"/>
              </a:rPr>
              <a:t>(3)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11"/>
          <p:cNvSpPr/>
          <p:nvPr/>
        </p:nvSpPr>
        <p:spPr>
          <a:xfrm>
            <a:off x="6867000" y="2362320"/>
            <a:ext cx="179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lve problem i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enthesis fir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own Arrow 13"/>
          <p:cNvSpPr/>
          <p:nvPr/>
        </p:nvSpPr>
        <p:spPr>
          <a:xfrm>
            <a:off x="5943600" y="2438280"/>
            <a:ext cx="380880" cy="457200"/>
          </a:xfrm>
          <a:prstGeom prst="downArrow">
            <a:avLst>
              <a:gd name="adj1" fmla="val 50000"/>
              <a:gd name="adj2" fmla="val 5001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" dur="2000" fill="hold"/>
                                        <p:tgtEl>
                                          <p:spTgt spid="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96296E-006 L -0.00417 0.21018 E">
                                      <p:cBhvr>
                                        <p:cTn id="31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0948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om left to right start multiplying or divi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>
            <a:off x="2135880" y="2666880"/>
            <a:ext cx="3862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+</a:t>
            </a: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5x3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x3=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3278520" y="426708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/>
          <p:nvPr/>
        </p:nvSpPr>
        <p:spPr>
          <a:xfrm>
            <a:off x="2135520" y="2666880"/>
            <a:ext cx="1136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+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4421520" y="2666880"/>
            <a:ext cx="1555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x3=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/>
          <p:nvPr/>
        </p:nvSpPr>
        <p:spPr>
          <a:xfrm>
            <a:off x="1965240" y="4176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1279440" y="341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Content Placeholder 3" descr=""/>
          <p:cNvPicPr/>
          <p:nvPr/>
        </p:nvPicPr>
        <p:blipFill>
          <a:blip r:embed="rId1"/>
          <a:srcRect l="0" t="46716" r="-358" b="24298"/>
          <a:stretch/>
        </p:blipFill>
        <p:spPr>
          <a:xfrm>
            <a:off x="457200" y="380880"/>
            <a:ext cx="8381880" cy="13716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295280" y="1600200"/>
            <a:ext cx="76201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15238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52280"/>
            <a:ext cx="762120" cy="609840"/>
          </a:xfrm>
          <a:prstGeom prst="diamond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3657600"/>
            <a:ext cx="153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 the rest of the problem down aga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-0.03565 L -0.00017 0.21991 E">
                                      <p:cBhvr>
                                        <p:cTn id="42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-0.02454 L -0.00399 0.23102 E">
                                      <p:cBhvr>
                                        <p:cTn id="44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60948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inue multiplying or divi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2135880" y="2666880"/>
            <a:ext cx="3443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+</a:t>
            </a: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15x3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3583080" y="4267080"/>
            <a:ext cx="160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45=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2135520" y="2666880"/>
            <a:ext cx="1136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+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/>
          <p:nvPr/>
        </p:nvSpPr>
        <p:spPr>
          <a:xfrm>
            <a:off x="1965240" y="4176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/>
          <p:nvPr/>
        </p:nvSpPr>
        <p:spPr>
          <a:xfrm>
            <a:off x="1279440" y="341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Content Placeholder 3" descr=""/>
          <p:cNvPicPr/>
          <p:nvPr/>
        </p:nvPicPr>
        <p:blipFill>
          <a:blip r:embed="rId1"/>
          <a:srcRect l="0" t="46716" r="-358" b="24298"/>
          <a:stretch/>
        </p:blipFill>
        <p:spPr>
          <a:xfrm>
            <a:off x="457200" y="380880"/>
            <a:ext cx="8381880" cy="13716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295280" y="1600200"/>
            <a:ext cx="76201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15238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152280"/>
            <a:ext cx="762120" cy="609840"/>
          </a:xfrm>
          <a:prstGeom prst="diamond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3657600"/>
            <a:ext cx="153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 the rest of the problem down aga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-0.02454 L -0.00399 0.23102 E">
                                      <p:cBhvr>
                                        <p:cTn id="56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342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6600" spc="-1" strike="noStrike">
                <a:solidFill>
                  <a:srgbClr val="ff0000"/>
                </a:solidFill>
                <a:latin typeface="Calibri"/>
              </a:rPr>
              <a:t>7+4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Content Placeholder 3" descr=""/>
          <p:cNvPicPr/>
          <p:nvPr/>
        </p:nvPicPr>
        <p:blipFill>
          <a:blip r:embed="rId1"/>
          <a:srcRect l="0" t="70877" r="-1272" b="0"/>
          <a:stretch/>
        </p:blipFill>
        <p:spPr>
          <a:xfrm>
            <a:off x="380880" y="685800"/>
            <a:ext cx="8458200" cy="13780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12360" y="2246400"/>
            <a:ext cx="52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for addition and subtraction from left to righ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3583440" y="4572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5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20:28:33Z</dcterms:created>
  <dc:creator> </dc:creator>
  <dc:description/>
  <dc:language>en-US</dc:language>
  <cp:lastModifiedBy>Michele Cochran</cp:lastModifiedBy>
  <dcterms:modified xsi:type="dcterms:W3CDTF">2012-03-31T14:27:22Z</dcterms:modified>
  <cp:revision>7</cp:revision>
  <dc:subject/>
  <dc:title>Slide 1</dc:title>
</cp:coreProperties>
</file>